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352-EC52-4A74-A2C3-6F8FA4AD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6AF-0882-4D4F-97F3-5109935C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681-6CDF-47E7-9FB1-E1BFBF83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DC1-4016-4333-9E45-7AB764B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1FE-E1BA-43E0-B68A-562696BB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A51-B12F-4747-89E3-589B9936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281-EF39-4133-8878-D009DAA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DDB-259B-4560-A82E-3B2C27B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97C-1B47-418F-8391-0C28462C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B47-0678-437F-BE8A-F99C9B18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097-6D65-4EDD-B0F3-B65133FF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7AF-AC35-40B5-95CD-41EE5010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053C-EF54-4950-8D5B-1CD0266BC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P_AQ_Unified_Scenario" TargetMode="External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hyperlink" Target="http://wiki.esipfed.org/index.php/GEOSS_AIP_AQ_Scenario" TargetMode="External"/><Relationship Id="rId4" Type="http://schemas.openxmlformats.org/officeDocument/2006/relationships/hyperlink" Target="http://wiki.esipfed.org/index.php/Talk:GEOSS_AIP_AQ_Scenario" TargetMode="External"/><Relationship Id="rId5" Type="http://schemas.openxmlformats.org/officeDocument/2006/relationships/hyperlink" Target="http://wiki.esipfed.org/index.php/GEOSS_AIP_AQ_Scenar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Wanted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5720" y="3362040"/>
            <a:ext cx="24764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704880"/>
            <a:ext cx="8143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ir Quality Scenario </a:t>
            </a:r>
            <a:r>
              <a:rPr b="1" lang="en-US" sz="2800" spc="-1" strike="noStrike" u="sng">
                <a:solidFill>
                  <a:srgbClr val="005faa"/>
                </a:solidFill>
                <a:uFillTx/>
                <a:latin typeface="Arial"/>
              </a:rPr>
              <a:t>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781280"/>
            <a:ext cx="8991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IP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elecons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develop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munity of Pract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o co-evolve with the AIP Pilot and oth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871640" y="3025800"/>
            <a:ext cx="5429160" cy="351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a serious global public heal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influenced by processes on local, regional, intercontinental, and glob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tter understand, forecast, and manage air pollution, there is a need to bring together information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bservational platforms (surface monitoring networks, satellites, sondes, ground-based remote sensors, aircraft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and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and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emographics, exposure-related behavior, and health impacts does not respect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; and international cooperative fora (e.g. WMO, CEOS, EEA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lated 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Commerce/Transportation/Energy/Land Use/Health Authorit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Industry; Consultants; Academic and Other Research Institutes; and international scientific cooperative fora or projects (e.g., IGAC, GEMS, ECMWF, EMEP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 and Multi-lateral Cooperative Fora (such as LRTAP Convention, EANET, Male Declaration, CAI-Asia, Arctic Council, ...);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Consumers of Air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ral public; National, State/Provincial, and Local Health and Emergency Response Authorities; Academic and Independent Research Institutes (including health and environmental impacts research); Mass Media (including television, newspapers, radio, internet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Focus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22600" y="1581120"/>
            <a:ext cx="5470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07:43:38Z</dcterms:modified>
  <cp:revision>226</cp:revision>
  <dc:subject/>
  <dc:title>Update on OGC involvement in GEOSS</dc:title>
</cp:coreProperties>
</file>